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</p:sldMasterIdLst>
  <p:notesMasterIdLst>
    <p:notesMasterId r:id="rId21"/>
  </p:notesMasterIdLst>
  <p:sldIdLst>
    <p:sldId id="256" r:id="rId22"/>
    <p:sldId id="257" r:id="rId23"/>
    <p:sldId id="258" r:id="rId24"/>
    <p:sldId id="259" r:id="rId25"/>
    <p:sldId id="260" r:id="rId26"/>
    <p:sldId id="261" r:id="rId27"/>
    <p:sldId id="262" r:id="rId28"/>
    <p:sldId id="263" r:id="rId29"/>
    <p:sldId id="264" r:id="rId30"/>
    <p:sldId id="265" r:id="rId31"/>
    <p:sldId id="266" r:id="rId32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notesMaster" Target="notesMasters/notesMaster1.xml"/><Relationship Id="rId22" Type="http://schemas.openxmlformats.org/officeDocument/2006/relationships/slide" Target="slides/slide1.xml"/><Relationship Id="rId23" Type="http://schemas.openxmlformats.org/officeDocument/2006/relationships/slide" Target="slides/slide2.xml"/><Relationship Id="rId24" Type="http://schemas.openxmlformats.org/officeDocument/2006/relationships/slide" Target="slides/slide3.xml"/><Relationship Id="rId25" Type="http://schemas.openxmlformats.org/officeDocument/2006/relationships/slide" Target="slides/slide4.xml"/><Relationship Id="rId26" Type="http://schemas.openxmlformats.org/officeDocument/2006/relationships/slide" Target="slides/slide5.xml"/><Relationship Id="rId27" Type="http://schemas.openxmlformats.org/officeDocument/2006/relationships/slide" Target="slides/slide6.xml"/><Relationship Id="rId28" Type="http://schemas.openxmlformats.org/officeDocument/2006/relationships/slide" Target="slides/slide7.xml"/><Relationship Id="rId29" Type="http://schemas.openxmlformats.org/officeDocument/2006/relationships/slide" Target="slides/slide8.xml"/><Relationship Id="rId30" Type="http://schemas.openxmlformats.org/officeDocument/2006/relationships/slide" Target="slides/slide9.xml"/><Relationship Id="rId31" Type="http://schemas.openxmlformats.org/officeDocument/2006/relationships/slide" Target="slides/slide10.xml"/><Relationship Id="rId32" Type="http://schemas.openxmlformats.org/officeDocument/2006/relationships/slide" Target="slides/slide11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Helvetica Neue Ligh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B8A4C-17CA-4BAB-B55A-C91515B13383}" type="datetime">
              <a:rPr b="0" lang="en-US" sz="1200" spc="-1" strike="noStrike">
                <a:solidFill>
                  <a:srgbClr val="000000"/>
                </a:solidFill>
                <a:latin typeface="Helvetica Neue Ligh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8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Helvetica Neue Ligh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85799-537D-4D59-9E69-CCF42AB0BA64}" type="slidenum">
              <a:rPr b="0" lang="en-US" sz="1200" spc="-1" strike="noStrike">
                <a:solidFill>
                  <a:srgbClr val="000000"/>
                </a:solidFill>
                <a:latin typeface="Helvetica Neue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dules should be 3-7 minutes lo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360F9-572B-4A22-87A2-FE4B3CF5F509}" type="slidenum">
              <a:rPr b="0" lang="en-US" sz="1200" spc="-1" strike="noStrike">
                <a:solidFill>
                  <a:srgbClr val="000000"/>
                </a:solidFill>
                <a:latin typeface="Helvetica Neue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6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7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65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66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9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80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5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6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87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92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93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94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4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30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31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72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73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571320" y="501624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4000"/>
          </a:bodyPr>
          <a:p>
            <a:pPr marL="28800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288000" indent="-288000">
              <a:buClr>
                <a:srgbClr val="606060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2" marL="288000" indent="-288000">
              <a:buClr>
                <a:srgbClr val="606060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3" marL="288000" indent="-288000">
              <a:buClr>
                <a:srgbClr val="606060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4" marL="288000" indent="-288000">
              <a:buClr>
                <a:srgbClr val="60606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5" marL="288000" indent="-28800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6" marL="288000" indent="-28800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" name="Line 2"/>
          <p:cNvSpPr/>
          <p:nvPr/>
        </p:nvSpPr>
        <p:spPr>
          <a:xfrm>
            <a:off x="647640" y="474984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pic>
        <p:nvPicPr>
          <p:cNvPr id="3" name="Picture 4" descr="Logo300dpi %281%29.png"/>
          <p:cNvPicPr/>
          <p:nvPr/>
        </p:nvPicPr>
        <p:blipFill>
          <a:blip r:embed="rId2"/>
          <a:stretch/>
        </p:blipFill>
        <p:spPr>
          <a:xfrm>
            <a:off x="10083960" y="380880"/>
            <a:ext cx="2286000" cy="1359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351" name="Line 2"/>
          <p:cNvSpPr/>
          <p:nvPr/>
        </p:nvSpPr>
        <p:spPr>
          <a:xfrm flipH="1">
            <a:off x="6488280" y="519120"/>
            <a:ext cx="1440" cy="796464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52" name="Line 3"/>
          <p:cNvSpPr/>
          <p:nvPr/>
        </p:nvSpPr>
        <p:spPr>
          <a:xfrm>
            <a:off x="6488280" y="4476600"/>
            <a:ext cx="5995800" cy="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body"/>
          </p:nvPr>
        </p:nvSpPr>
        <p:spPr>
          <a:xfrm>
            <a:off x="571320" y="2324160"/>
            <a:ext cx="507996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2000"/>
          </a:bodyPr>
          <a:p>
            <a:pPr marL="24516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607320" indent="-24480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101628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142524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183420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1834200" indent="-2451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1834200" indent="-2451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91" name="Line 3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body"/>
          </p:nvPr>
        </p:nvSpPr>
        <p:spPr>
          <a:xfrm>
            <a:off x="8368920" y="2324160"/>
            <a:ext cx="40640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marL="218520" indent="-21852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541080" indent="-218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905760" indent="-21852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1270440" indent="-21852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1634760" indent="-21852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1634760" indent="-21852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1634760" indent="-21852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30" name="Line 3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body"/>
          </p:nvPr>
        </p:nvSpPr>
        <p:spPr>
          <a:xfrm>
            <a:off x="571320" y="863280"/>
            <a:ext cx="11861640" cy="8026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5000"/>
          </a:bodyPr>
          <a:p>
            <a:pPr marL="253080" indent="-253080">
              <a:spcBef>
                <a:spcPts val="7200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627120" indent="-253080">
              <a:spcBef>
                <a:spcPts val="7200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1049400" indent="-253080">
              <a:spcBef>
                <a:spcPts val="7200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1471680" indent="-253080">
              <a:spcBef>
                <a:spcPts val="7200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1894320" indent="-253080">
              <a:spcBef>
                <a:spcPts val="7200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1894320" indent="-253080">
              <a:spcBef>
                <a:spcPts val="7200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1894320" indent="-253080">
              <a:spcBef>
                <a:spcPts val="7200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05" name="Line 2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body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1104840" indent="-2667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1549440" indent="-2667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1994040" indent="-2667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1994040" indent="-2667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1994040" indent="-2667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44" name="Line 3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body"/>
          </p:nvPr>
        </p:nvSpPr>
        <p:spPr>
          <a:xfrm>
            <a:off x="571320" y="5016240"/>
            <a:ext cx="507996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1000"/>
          </a:bodyPr>
          <a:p>
            <a:pPr marL="31212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312120" indent="-312120">
              <a:buClr>
                <a:srgbClr val="606060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312120" indent="-312120">
              <a:buClr>
                <a:srgbClr val="606060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312120" indent="-312120">
              <a:buClr>
                <a:srgbClr val="606060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312120" indent="-312120">
              <a:buClr>
                <a:srgbClr val="60606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312120" indent="-31212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312120" indent="-31212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8" name="Line 2"/>
          <p:cNvSpPr/>
          <p:nvPr/>
        </p:nvSpPr>
        <p:spPr>
          <a:xfrm>
            <a:off x="647640" y="4749840"/>
            <a:ext cx="488160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 type="title"/>
          </p:nvPr>
        </p:nvSpPr>
        <p:spPr>
          <a:xfrm>
            <a:off x="571320" y="1320480"/>
            <a:ext cx="507996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1409400" y="7785000"/>
            <a:ext cx="579132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57" name="Line 2"/>
          <p:cNvSpPr/>
          <p:nvPr/>
        </p:nvSpPr>
        <p:spPr>
          <a:xfrm>
            <a:off x="7543800" y="7975440"/>
            <a:ext cx="0" cy="142272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7848720" y="8470440"/>
            <a:ext cx="4952880" cy="507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14000"/>
          </a:bodyPr>
          <a:p>
            <a:pPr marL="478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1" marL="47880" indent="-47880">
              <a:buClr>
                <a:srgbClr val="999999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2" marL="47880" indent="-47880">
              <a:buClr>
                <a:srgbClr val="999999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3" marL="47880" indent="-47880">
              <a:buClr>
                <a:srgbClr val="999999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4" marL="47880" indent="-47880">
              <a:buClr>
                <a:srgbClr val="999999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5" marL="47880" indent="-4788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6" marL="47880" indent="-4788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571320" y="3708000"/>
            <a:ext cx="11861640" cy="2336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1" name="Line 2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2" marL="11048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3" marL="15494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4" marL="19940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5" marL="1994040" indent="-266760">
              <a:spcBef>
                <a:spcPts val="6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6" marL="1994040" indent="-266760">
              <a:spcBef>
                <a:spcPts val="6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pic>
        <p:nvPicPr>
          <p:cNvPr id="43" name="Picture 5" descr="Logo300dpi %281%29.png"/>
          <p:cNvPicPr/>
          <p:nvPr/>
        </p:nvPicPr>
        <p:blipFill>
          <a:blip r:embed="rId2"/>
          <a:stretch/>
        </p:blipFill>
        <p:spPr>
          <a:xfrm>
            <a:off x="10083960" y="380880"/>
            <a:ext cx="2286000" cy="1359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5"/>
          <p:cNvSpPr/>
          <p:nvPr/>
        </p:nvSpPr>
        <p:spPr>
          <a:xfrm>
            <a:off x="499680" y="299880"/>
            <a:ext cx="594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elvetica Neue Light"/>
              </a:rPr>
              <a:t>Data Formats</a:t>
            </a:r>
            <a:r>
              <a:rPr b="0" lang="en-US" sz="1200" spc="-1" strike="noStrike">
                <a:solidFill>
                  <a:srgbClr val="000000"/>
                </a:solidFill>
                <a:latin typeface="Helvetica Neue Light"/>
              </a:rPr>
              <a:t>: Using self-describing data formats; Version 1.0, Reviewed ??/??/??</a:t>
            </a:r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82" name="Line 2"/>
          <p:cNvSpPr/>
          <p:nvPr/>
        </p:nvSpPr>
        <p:spPr>
          <a:xfrm flipH="1">
            <a:off x="9066240" y="519120"/>
            <a:ext cx="1440" cy="796464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3" name="Line 3"/>
          <p:cNvSpPr/>
          <p:nvPr/>
        </p:nvSpPr>
        <p:spPr>
          <a:xfrm>
            <a:off x="9066240" y="3092400"/>
            <a:ext cx="3430440" cy="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4" name="Line 4"/>
          <p:cNvSpPr/>
          <p:nvPr/>
        </p:nvSpPr>
        <p:spPr>
          <a:xfrm>
            <a:off x="9066240" y="5873760"/>
            <a:ext cx="3430440" cy="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122" name="Line 2"/>
          <p:cNvSpPr/>
          <p:nvPr/>
        </p:nvSpPr>
        <p:spPr>
          <a:xfrm>
            <a:off x="6502320" y="1803240"/>
            <a:ext cx="0" cy="431820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160" name="Line 2"/>
          <p:cNvSpPr/>
          <p:nvPr/>
        </p:nvSpPr>
        <p:spPr>
          <a:xfrm flipH="1">
            <a:off x="4430880" y="1778040"/>
            <a:ext cx="1440" cy="505440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198" name="Line 2"/>
          <p:cNvSpPr/>
          <p:nvPr/>
        </p:nvSpPr>
        <p:spPr>
          <a:xfrm flipH="1">
            <a:off x="6488280" y="507960"/>
            <a:ext cx="1440" cy="801360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236" name="Line 2"/>
          <p:cNvSpPr/>
          <p:nvPr/>
        </p:nvSpPr>
        <p:spPr>
          <a:xfrm flipH="1">
            <a:off x="4443480" y="1776240"/>
            <a:ext cx="1440" cy="506916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37" name="Line 3"/>
          <p:cNvSpPr/>
          <p:nvPr/>
        </p:nvSpPr>
        <p:spPr>
          <a:xfrm flipH="1">
            <a:off x="8545680" y="1776240"/>
            <a:ext cx="1440" cy="506916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body"/>
          </p:nvPr>
        </p:nvSpPr>
        <p:spPr>
          <a:xfrm>
            <a:off x="571320" y="2324160"/>
            <a:ext cx="507996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2000"/>
          </a:bodyPr>
          <a:p>
            <a:pPr marL="24516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607320" indent="-24480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101628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142524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183420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1834200" indent="-2451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1834200" indent="-2451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12" name="Line 2"/>
          <p:cNvSpPr/>
          <p:nvPr/>
        </p:nvSpPr>
        <p:spPr>
          <a:xfrm>
            <a:off x="647640" y="1968480"/>
            <a:ext cx="487692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title"/>
          </p:nvPr>
        </p:nvSpPr>
        <p:spPr>
          <a:xfrm>
            <a:off x="571320" y="329760"/>
            <a:ext cx="507996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hdfgroup.org/" TargetMode="External"/><Relationship Id="rId2" Type="http://schemas.openxmlformats.org/officeDocument/2006/relationships/hyperlink" Target="http://www.hdfgroup.org/" TargetMode="External"/><Relationship Id="rId3" Type="http://schemas.openxmlformats.org/officeDocument/2006/relationships/hyperlink" Target="http://hdfeos.org/" TargetMode="External"/><Relationship Id="rId4" Type="http://schemas.openxmlformats.org/officeDocument/2006/relationships/hyperlink" Target="http://www.unidata.ucar.edu/software/netcdf" TargetMode="External"/><Relationship Id="rId5" Type="http://schemas.openxmlformats.org/officeDocument/2006/relationships/hyperlink" Target="http://cf-pcmdi.llnl.gov/" TargetMode="External"/><Relationship Id="rId6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571320" y="1346040"/>
            <a:ext cx="11861640" cy="317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Helvetica Neue Light"/>
              </a:rPr>
              <a:t>Data Formats: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Helvetica Neue Light"/>
              </a:rPr>
              <a:t>Using self-describing data formats</a:t>
            </a:r>
            <a:endParaRPr b="0" lang="en-US" sz="4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583920" y="4952880"/>
            <a:ext cx="5918040" cy="317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Curt Tilmes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NASA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41" name="Rectangle 2"/>
          <p:cNvSpPr/>
          <p:nvPr/>
        </p:nvSpPr>
        <p:spPr>
          <a:xfrm>
            <a:off x="6654960" y="4952880"/>
            <a:ext cx="5918040" cy="31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Version 1.0</a:t>
            </a:r>
            <a:endParaRPr b="0" lang="en-US" sz="2400" spc="-1" strike="noStrike">
              <a:solidFill>
                <a:srgbClr val="000000"/>
              </a:solidFill>
              <a:latin typeface="Helvetica Neue Light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Review Date</a:t>
            </a:r>
            <a:endParaRPr b="0" lang="en-US" sz="2400" spc="-1" strike="noStrike">
              <a:solidFill>
                <a:srgbClr val="000000"/>
              </a:solidFill>
              <a:latin typeface="Helvetica Neue Light"/>
            </a:endParaRPr>
          </a:p>
        </p:txBody>
      </p:sp>
      <p:pic>
        <p:nvPicPr>
          <p:cNvPr id="742" name="Picture 31" descr="nasa_3_c"/>
          <p:cNvPicPr/>
          <p:nvPr/>
        </p:nvPicPr>
        <p:blipFill>
          <a:blip r:embed="rId1"/>
          <a:stretch/>
        </p:blipFill>
        <p:spPr>
          <a:xfrm>
            <a:off x="558720" y="7848720"/>
            <a:ext cx="1671840" cy="144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References and Resources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HDF: </a:t>
            </a:r>
            <a:r>
              <a:rPr b="0" lang="en-US" sz="3400" spc="-1" strike="noStrike" u="sng">
                <a:solidFill>
                  <a:srgbClr val="009999"/>
                </a:solidFill>
                <a:uFillTx/>
                <a:latin typeface="Helvetica Neue"/>
                <a:hlinkClick r:id="rId1"/>
              </a:rPr>
              <a:t>http://</a:t>
            </a:r>
            <a:r>
              <a:rPr b="0" lang="en-US" sz="3400" spc="-1" strike="noStrike" u="sng">
                <a:solidFill>
                  <a:srgbClr val="009999"/>
                </a:solidFill>
                <a:uFillTx/>
                <a:latin typeface="Helvetica Neue"/>
                <a:hlinkClick r:id="rId2"/>
              </a:rPr>
              <a:t>www.hdfgroup.org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HDF-EOS: </a:t>
            </a:r>
            <a:r>
              <a:rPr b="0" lang="en-US" sz="3400" spc="-1" strike="noStrike" u="sng">
                <a:solidFill>
                  <a:srgbClr val="009999"/>
                </a:solidFill>
                <a:uFillTx/>
                <a:latin typeface="Helvetica Neue"/>
                <a:hlinkClick r:id="rId3"/>
              </a:rPr>
              <a:t>http://hdfeos.org</a:t>
            </a: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 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NetCDF: </a:t>
            </a:r>
            <a:r>
              <a:rPr b="0" lang="en-US" sz="3400" spc="-1" strike="noStrike" u="sng">
                <a:solidFill>
                  <a:srgbClr val="009999"/>
                </a:solidFill>
                <a:uFillTx/>
                <a:latin typeface="Helvetica Neue"/>
                <a:hlinkClick r:id="rId4"/>
              </a:rPr>
              <a:t>http://www.unidata.ucar.edu/software/netcdf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CF: </a:t>
            </a:r>
            <a:r>
              <a:rPr b="0" lang="en-US" sz="3400" spc="-1" strike="noStrike" u="sng">
                <a:solidFill>
                  <a:srgbClr val="009999"/>
                </a:solidFill>
                <a:uFillTx/>
                <a:latin typeface="Helvetica Neue"/>
                <a:hlinkClick r:id="rId5"/>
              </a:rPr>
              <a:t>http://cf-pcmdi.llnl.gov/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Other Relevant Modules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Avoiding proprietary formats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Choosing and adopting community accepted standards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Building understandable spreadsheets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44" name=""/>
          <p:cNvSpPr txBox="1"/>
          <p:nvPr/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lf-describing data formats have become a well accepted way of archiving and disseminating scientific data.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Background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46" name=""/>
          <p:cNvSpPr txBox="1"/>
          <p:nvPr/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Before self-describing data formats became widely used, each project often invented their own data formats, often raw binary or even ASCII.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These approaches had a number of problems: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Machine dependent byte ordering or floating point organizations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Required a ‘key’ to be able to open the file and read the right data.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A new custom reader is needed for each different data organization.  Working in a new language could be very difficult since you have to redevelop the reader anew.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Self-describing data formats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48" name=""/>
          <p:cNvSpPr txBox="1"/>
          <p:nvPr/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marL="258480" indent="-2584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Information describing the data contents of the file are embedded within the data file itself: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40080" indent="-25812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Names for various fields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40080" indent="-25812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Data types – Standardized, portable, machine independent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40080" indent="-25812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Pointers to various fields, making it efficient to extract the particular fields you want without reading the entire file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40080" indent="-25812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Attributes and flags related to the primary fields with extra information such as units, fill values, etc.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marL="258480" indent="-2584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Include a standard API and portable data access libraries in a variety of languages 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58480" indent="-2584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There are tools that can open and work with arbitrary files, using the embedded descriptions to interpret the data.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58480" indent="-2584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Some example formats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0" name=""/>
          <p:cNvSpPr txBox="1"/>
          <p:nvPr/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HDF – Hierarchical Data Format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HDF4 and HDF5 versions are in use today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A NASA variant called HDF-EOS is used within the Earth Observing System program.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NetCDF – Network Common Data Form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Widely used by agencies including NASA and NOAA 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Climate and forecast (CF) metadata conventions help standardize some things into NetCDF in a common manner.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Best practices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2" name=""/>
          <p:cNvSpPr txBox="1"/>
          <p:nvPr/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Choosing a self-describing format is a good first step, but it isn’t a panacea.  You still have to decide how to encode your data into the format.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Think carefully about the how you use the format: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Layout of data within the file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Unambiguous names for fields; Use standard names if possible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Units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Fill values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Keep the users/readers of your files in mind.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ome formats support seamless internal compression that can help with file sizes.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Case Study: Format abuse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4" name=""/>
          <p:cNvSpPr txBox="1"/>
          <p:nvPr/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A project had to distribute NORAD Two-Line Element (TLE) Sets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This is a small amount of data, in a well defined format within ASCII, widely used and common.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ASCII isn’t the best format, but for a small amount of data like this, especially in a widely used and understood format, it would have been fine.  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People understand the TLE format and have standard ways to parse it.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Nevertheless, it isn’t self-describing, and people unfamiliar with TLE wouldn’t have a clue what those numbers mean.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They chose to encode into HDF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55" name="TextBox 3"/>
          <p:cNvSpPr/>
          <p:nvPr/>
        </p:nvSpPr>
        <p:spPr>
          <a:xfrm>
            <a:off x="2921040" y="2971800"/>
            <a:ext cx="8686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1 39900U 10123A 10249.02432654 .00000388 00001-0 14877-3 0 3039</a:t>
            </a:r>
            <a:endParaRPr b="0" lang="en-US" sz="1400" spc="-1" strike="noStrike">
              <a:solidFill>
                <a:srgbClr val="000000"/>
              </a:solidFill>
              <a:latin typeface="Helvetica Neue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2 39900 098.6793 188.3954 0009896 294.6098 065.4121 14.19557889216547</a:t>
            </a:r>
            <a:endParaRPr b="0" lang="en-US" sz="1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Case Study: Format abuse (cont)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7" name=""/>
          <p:cNvSpPr txBox="1"/>
          <p:nvPr/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3000"/>
          </a:bodyPr>
          <a:p>
            <a:pPr marL="248040" indent="-24804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A straightforward encoding would be to parse the fields, create fields with the right types (floating point) and name them according to their actual content from the TLE spec. 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48040" indent="-24804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They chose instead to maintain the ASCII text, encoding the individual characters of the file in their raw numerical form as an array of bytes.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48040" indent="-24804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To read this data from the HDF file, you first have to extract the ASCII bytes, then parse yourself according to the TLE spec.  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48040" indent="-24804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Rather than attaching metadata to the data fields, they created a separate empty dataset just to hold the metadata.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48040" indent="-24804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This is just bizarre.  Don’t do it like that.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Case Study: Format abuse (cont)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pic>
        <p:nvPicPr>
          <p:cNvPr id="759" name="Content Placeholder 3" descr="hdfview_TLE_1.jpg"/>
          <p:cNvPicPr/>
          <p:nvPr/>
        </p:nvPicPr>
        <p:blipFill>
          <a:blip r:embed="rId1"/>
          <a:stretch/>
        </p:blipFill>
        <p:spPr>
          <a:xfrm>
            <a:off x="711360" y="2057400"/>
            <a:ext cx="5486400" cy="7431120"/>
          </a:xfrm>
          <a:prstGeom prst="rect">
            <a:avLst/>
          </a:prstGeom>
          <a:ln w="0">
            <a:noFill/>
          </a:ln>
        </p:spPr>
      </p:pic>
      <p:pic>
        <p:nvPicPr>
          <p:cNvPr id="760" name="Picture 4" descr="hdfview_TLE_3.jpg"/>
          <p:cNvPicPr/>
          <p:nvPr/>
        </p:nvPicPr>
        <p:blipFill>
          <a:blip r:embed="rId2"/>
          <a:stretch/>
        </p:blipFill>
        <p:spPr>
          <a:xfrm>
            <a:off x="6273720" y="2057400"/>
            <a:ext cx="5486400" cy="74311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09T22:31:13Z</dcterms:created>
  <dc:creator/>
  <dc:description/>
  <cp:keywords/>
  <dc:language>en-US</dc:language>
  <cp:lastModifiedBy>Curt</cp:lastModifiedBy>
  <dcterms:modified xsi:type="dcterms:W3CDTF">2011-10-22T01:34:23Z</dcterms:modified>
  <cp:revision>42</cp:revision>
  <dc:subject/>
  <dc:title>ESIP Federation 101</dc:title>
</cp:coreProperties>
</file>